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9EFFF-45C8-48F8-9B79-69479A848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F6E3D-C602-4D8E-B197-BE611B013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5010E-4664-4EE4-BC32-C897A8F6E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FB37A-83BF-483E-9C83-8E18A5E96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2458B-6511-4843-A03A-49D097D7C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BECCA-D865-4C69-AD32-2930C1A22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010F9-00FC-4B65-A92A-2A6225C7C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D979C-91EA-4D60-A648-E5A59B873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BC728-B505-44ED-8537-308F1CB59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C6263-B653-492C-9011-33035A56B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21F12-652F-4269-82BE-0A1269257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088F5-E51C-4434-9C4B-C24633E22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0E53F-7475-40E1-A3E3-65B1F12B51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AG00343_" descr=""/>
          <p:cNvPicPr/>
          <p:nvPr/>
        </p:nvPicPr>
        <p:blipFill>
          <a:blip r:embed="rId1"/>
          <a:stretch/>
        </p:blipFill>
        <p:spPr>
          <a:xfrm>
            <a:off x="1828800" y="2533680"/>
            <a:ext cx="1838160" cy="17524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4419720" y="2362320"/>
            <a:ext cx="2985840" cy="2000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P. 6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533160" y="609480"/>
            <a:ext cx="38098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1100"/>
              </a:spcBef>
              <a:buClr>
                <a:srgbClr val="3333cc"/>
              </a:buClr>
              <a:buFont typeface="Wingdings" charset="2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100"/>
              </a:spcBef>
              <a:buClr>
                <a:srgbClr val="3333cc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hakespeare</a:t>
            </a: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 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100"/>
              </a:spcBef>
              <a:buClr>
                <a:srgbClr val="3333cc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100"/>
              </a:spcBef>
              <a:buClr>
                <a:srgbClr val="3333cc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100"/>
              </a:spcBef>
              <a:buClr>
                <a:srgbClr val="3333cc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ney </a:t>
            </a: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100"/>
              </a:spcBef>
              <a:buClr>
                <a:srgbClr val="3333cc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udge </a:t>
            </a: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24280" y="609480"/>
            <a:ext cx="38102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1100"/>
              </a:spcBef>
              <a:buClr>
                <a:srgbClr val="3333cc"/>
              </a:buClr>
              <a:buFont typeface="Wingdings" charset="2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ton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100"/>
              </a:spcBef>
              <a:buClr>
                <a:srgbClr val="3333cc"/>
              </a:buClr>
              <a:buFont typeface="Times New Roman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A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ton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100"/>
              </a:spcBef>
              <a:buClr>
                <a:srgbClr val="3333cc"/>
              </a:buClr>
              <a:buFont typeface="Times New Roman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yloc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100"/>
              </a:spcBef>
              <a:buClr>
                <a:srgbClr val="3333cc"/>
              </a:buClr>
              <a:buFont typeface="Times New Roman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P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rt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100"/>
              </a:spcBef>
              <a:buClr>
                <a:srgbClr val="3333cc"/>
              </a:buClr>
              <a:buFont typeface="Times New Roman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100"/>
              </a:spcBef>
              <a:buClr>
                <a:srgbClr val="3333cc"/>
              </a:buClr>
              <a:buFont typeface="Times New Roman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tonio</a:t>
            </a: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’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4T14:51:13Z</dcterms:created>
  <dc:creator>Bafayad</dc:creator>
  <dc:description/>
  <dc:language>en-US</dc:language>
  <cp:lastModifiedBy>Bafayad</cp:lastModifiedBy>
  <dcterms:modified xsi:type="dcterms:W3CDTF">2004-02-14T14:51:22Z</dcterms:modified>
  <cp:revision>1</cp:revision>
  <dc:subject/>
  <dc:title>عرض تقديمي من PowerPoint</dc:title>
</cp:coreProperties>
</file>